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DC5-F0B3-49A0-8DEE-F93F3B8B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B1C-7382-4AAA-AFDA-87C6348E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692-677D-459B-930B-B443F5DF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F1F-EC28-4E76-9732-D7F443DA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A9F-2778-43B7-9C44-AA115F36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6DD-06A4-4035-93D6-4D92D9D3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CD6-F93D-45BF-92D3-D8602C3F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5FB-8EF6-4DD1-9005-0017D3A7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C79-A0C0-4F51-BBE7-BF699585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6C4-533D-40C3-8825-C710F790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7AA-1AEA-40C6-AE53-DD06B455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8B0-6501-4A32-B2FA-5693A8AE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F5D3-DAC3-4305-B473-F4F326CDF01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B541-BC8F-4B89-A990-B12FF0443E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466560" y="2108160"/>
            <a:ext cx="8523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2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479520" y="3828960"/>
            <a:ext cx="58816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08:08:00Z</dcterms:created>
  <dc:creator>admin</dc:creator>
  <dc:description/>
  <dc:language>en-US</dc:language>
  <cp:lastModifiedBy>cy</cp:lastModifiedBy>
  <dcterms:modified xsi:type="dcterms:W3CDTF">2020-10-14T03:05:15Z</dcterms:modified>
  <cp:revision>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99</vt:lpwstr>
  </property>
  <property fmtid="{D5CDD505-2E9C-101B-9397-08002B2CF9AE}" pid="3" name="KSORubyTemplateID">
    <vt:lpwstr>2</vt:lpwstr>
  </property>
</Properties>
</file>