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12193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B2C8-AD97-4E77-BA9F-FC05A5C0F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E232-BE25-436F-AD4A-EA3E9EBE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E51A-6E1D-4752-8832-2EC33ED3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CE6F-C8D6-43CC-B245-FA906124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1B86-EB8C-4995-9CC8-7C378673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C10A-335B-4737-B987-0FA86EB4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1A13-4696-44E9-A8BF-2B0F743F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1932-2A34-4860-A5C9-3C6F5B38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E32D-791A-402A-BB4A-44C3AA3E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D053-2A6A-4263-BAE6-BD27917F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4E6E-2BB4-421E-AE45-6BD92819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3B6A-6E47-47BD-A938-63FF2BE9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5682-2F88-4AE0-85FA-7B52ADC81DD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4A78-97C4-480E-91CD-04D2052F83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466560" y="2108160"/>
            <a:ext cx="8523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2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文本框 5"/>
          <p:cNvSpPr/>
          <p:nvPr/>
        </p:nvSpPr>
        <p:spPr>
          <a:xfrm>
            <a:off x="479520" y="3828960"/>
            <a:ext cx="58816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9T08:08:00Z</dcterms:created>
  <dc:creator>admin</dc:creator>
  <dc:description/>
  <dc:language>en-US</dc:language>
  <cp:lastModifiedBy>cy</cp:lastModifiedBy>
  <dcterms:modified xsi:type="dcterms:W3CDTF">2020-10-14T03:05:15Z</dcterms:modified>
  <cp:revision>8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99</vt:lpwstr>
  </property>
  <property fmtid="{D5CDD505-2E9C-101B-9397-08002B2CF9AE}" pid="3" name="KSORubyTemplateID">
    <vt:lpwstr>2</vt:lpwstr>
  </property>
</Properties>
</file>